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FCAA-643A-47B1-A724-9C97978C5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AA09-94A1-41E6-B57F-1CA5922D1ACB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eek - R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570A-52F0-4A9F-B3C7-760E3E09FE83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kis allow members to edit pages.  It is the perfect environment for collaboration.  The educational applications and implications are remark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 Euro + other SS, 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C18B-B7E1-45E5-931F-2CA63688390C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an:  Embeds podcasts, student have their own wikis – more for web sites – post work.  Students create collaborative study guides for ex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y of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my favorite uses:  outside of the classroom – don’t need computers in classroom to do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AA53-3467-47F6-BCD4-BA5AF75C2E23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ibil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Jobs co-founder of Ap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s.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ll share my thought on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ADF4-57FE-413D-BA0A-3EC5098408D0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2DB-9C36-41B3-9441-1B2FCBBA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0DE-F4E5-4CA6-B111-034A4798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438E9-19D8-47DE-809C-61EB5074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A0D1A-93C2-4371-8DD5-B9DB7E5F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F595F-083B-403D-8962-35F36EE6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1B826-115B-483C-9D82-96A9E8C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4F283-68F3-4F87-A12C-C90E674D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296F2-BD0D-4AD7-AAF4-DF5DB64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18814-C71B-46FD-BC52-8A07C451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9D053-AD7E-4F39-B5B7-FAB55FEA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0241E-B174-4DD7-B5BF-5BC6DDBB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7D146-15FC-4BB6-B18D-AAC86950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000-205E-432A-B7D9-55C18571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CE562-1517-4773-B8B2-FAFB6A59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7062D-9B7E-4CAE-8D7E-E93F3871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5A547-3502-4F2A-A4CB-422C7A6B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91374-4A06-4FFD-AB35-6206A34D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E00E6-CBB9-439A-8228-F3907843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7E88A-4094-4115-A759-7579AF2C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8E0B3-F9C3-4B7B-9EB8-4A53A937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AAB75-4526-4EC0-97A5-004D7033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FB33A-BE92-48B8-9109-BBC9F7D2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9C1C4-6ECB-4188-955A-E640334B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BC3-4C9A-44D3-A266-7414C692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3B9EB-28A9-4124-96A6-10EAB09C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F7F52-B48E-4251-AA66-1BEE885B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C3F56-9BDE-49BF-9979-DE523274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32E76-4B69-4A1B-8A16-3796F966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DC19F-B05B-4C54-903E-CD1FC6F4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4D59B-66E2-48D2-97B9-CCD049C3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EFC07-F8CE-4B03-91F5-87CA95D7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C3E7D-2B66-461E-B5AE-269554EC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63E0E-2938-4DE8-8752-F2FF0AB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D649B-4FDB-4A77-873C-EBA58358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7D6D-C527-440F-9CAE-26D74A0A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AB99D-13DA-4E01-ADB6-AFF95C73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8751D-350F-496B-9B87-272413FD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C5AA0-D1F4-4BA2-81BE-1DE5A5F8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13A50-29B9-4574-87E8-03B117BA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25836-FA6A-41A1-A470-07446EC6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56AF5-B458-4FC4-8E2C-A3B47F27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2D459-E5EC-41B6-824C-AF356524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84D44-97A8-4006-BF4E-081B260E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82E3E-BBE4-4436-9A9A-685FABB2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4ACBB-1EC5-4E53-AC15-62EF2605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F262-EF71-40F8-8CA8-852F8272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739F4-235A-4900-BF2A-6B20B4CF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26E1F-1B7E-4237-8CEC-D14D93DD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44B20-201C-482C-A481-78FFC8C4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F3ACA-B4AB-46D3-9DBD-492CBAF9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0B682-AD8D-4956-8B51-553F3346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FE71-2B74-4081-881D-9BC2E62E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A36C-351D-4E66-BF5A-AC254DEE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3637-F77C-43A8-BCCE-C1BD7CA5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B477-BD16-4941-BD33-471F25DB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9283-D6D0-41B7-A507-4993DF43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64F-FA52-4BF3-BEC1-5644D1A0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DF98-974B-44E4-88AD-3EB65E1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648A-04F0-4A5F-BE64-1BB02478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32E5-EF17-4320-B3E6-DCC693BD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0A20-2EB7-450E-8423-88345278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4ECD-809F-4ABD-888F-E716D67F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0B8A-4FE4-47A2-A066-777ED7EF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6643-BFBB-4C93-AA31-647BA84A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C9D7-3680-48B0-B223-AEA0B631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BB764-4034-4D8A-B4E7-8D082D73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5DE98-1A56-497E-BF06-C5215D06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5A2-6328-4BE7-9E57-892D3072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EFA06-50DB-480C-9AA0-D0C8DEF2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DA28-676B-4A14-A333-93C371A1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7F85-BF89-4346-839E-CF80359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B0E3-38BC-4C21-BDCF-4A06F4BD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BC51-DD89-4BEB-AE40-EF59223A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DE63-0967-49CE-8AEC-CB8ED32D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BE9FE-CF5C-4CA6-B5FF-A7D7651A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A89C1-3D0E-435E-A3BB-8287D251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EA014-DE74-40BB-ABCC-7D4ED1BD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36CD-CA6E-4ED6-B279-91F7ABF6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7EA-C1E6-4B48-83C7-7BBCBE26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085C-79FC-4923-B345-BCD6C2A9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C334-094B-4280-956D-AB999E31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8CC2-ED87-497B-85EF-004CE8D2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F7B2B-11A4-41CC-BD2B-3034547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91D2-877A-4291-B9EB-DE33A992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63A88-90CD-48E9-B3BF-2AD8D23B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0FB9-31C5-464C-B75C-A4B753A9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6F74-B673-42F0-B3B6-54FF5BFC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A8328-BD5A-4C06-9A47-550841F0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BD95E-96FF-4ACF-BDC8-7D3736CA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641-C58B-41C1-B05E-3F8B9DFA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3ED7E-1849-4A9A-B8F6-68BB70B6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61835-2F43-4427-823D-8696EA48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1FE59-9CF6-4495-898A-E08286D1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1ED08-EC1E-4D11-9F15-8608027B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A0081-5182-4F6A-AB5B-4AD2F7BD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48999-F0D9-45AC-A0CC-C1A298B4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E0A08-FC42-4267-B62C-F25D8937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166A0-4610-4129-9766-ED95E6E7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0438D-51A4-4B4F-8CD6-8A78B997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231C3-C66B-475F-A3F4-39178B0A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910-8762-457C-ADF6-D4C2FA93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68FD-AEAC-463B-BEDA-5FF27C30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FFEEF-2583-404B-B40E-64AEA33E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0F82-B0C2-4DB8-BEE0-FF108027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78B25-D68F-43E6-A646-89DBAE9E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6FA4-8F20-416E-9894-386595AB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15AC4-F96A-450F-983C-95A64A8B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4237A-5344-4845-A5D6-3135993F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8FF24-65BF-4FED-803F-BC2F5BEE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9A098-7283-4796-A41F-694DC52A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34214-989E-4DD8-9B91-393EBE86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E14-08C0-4109-8340-2AE2FBB0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76066-04BD-4E34-B9D5-92AE9884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271A0-0268-4733-BAB8-CF59769E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3D2AB-ABF5-44D9-90D5-3BC6CBA2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B1DDD-0E0E-48CC-8312-EA69DAE4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F1571-D29B-4B56-B49B-82B5925E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5EE59-B43B-4B93-AD97-786C6F84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0044A-4627-4484-B48A-A45354FC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B801F-61F4-4AFF-960E-D0F6EE0A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D4ADC-9E20-4F4B-9CB4-C11122F5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1ACAA-9036-40EF-98E7-DAD1B4B9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F43-F366-4DA1-9B70-FBB16D09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3F67-8F30-412B-9902-A1F7F62D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2E530-0968-4EA6-B780-D7E7E208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BE7F1-5729-42E6-9804-1515CC7C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1C399-D922-4554-A934-6BBFFDA5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2ABF6-6E00-4EBE-934B-BD094E47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2AF3F-77D1-4075-B1E1-875A996F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20843-29DD-4D06-A25C-25B8062B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4F8D1-C639-40D9-BDE8-1CD2BAF0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3BEDC-3FEB-46C4-84D0-C81DC0A0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8811A-3B6B-4E4E-ABD3-8EE6C25A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241-913A-4604-96AE-7D7AC093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44C26-5713-4126-8352-7F8ED4C4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62191-5957-41D5-8BC0-90C4D458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14B49-FA93-43BE-BFA1-97AA7AA5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74661-0410-4B2E-BC4A-2176A01C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F0A37-C56E-46FF-8A5C-57ACBED5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CB32E-9B2B-497D-A015-730A2E0C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4DB81-A988-4AE9-90D4-F03D50CA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FB40E-EE96-4682-9157-8AF99571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22D61-61C5-4792-9942-9A943F76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558DC-233A-422E-BEDA-0C64966F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6176-5CA3-44FA-8211-050CA37B2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F346-A08D-44B0-807E-D9AAE81D0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7A82-682B-4BB6-B6AA-12A64BDD4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C26A-F33E-42D7-823E-0E7CE5571B93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EAED-94C8-4F58-B2D0-6D3BE4B8B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B028-156D-4C4E-82BB-24A11F7C4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0DDA-85E5-40E5-8E58-2B6E7FC99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0B56-637C-4B00-9985-54CF7A746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5441-0AC1-45AC-B8CF-62342A0ED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E0C4-3E36-4BE6-8374-2C685B75D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2A20-6F28-42CE-89DD-EF8B1187A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CE0D-E626-4FF0-A406-3C2958B5A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verso.co.nz/mw/index.php?title=The_Read-Write_Matrix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kispaces.com/site/for/teachers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Tahoma"/>
              </a:rPr>
              <a:t>Wikis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iki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type of Web site that allows visitors to easily add, remove, or otherwise edit and change some available conten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llaborative Read/Write too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iki means Quick or Fast in Hawaiia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ard Cunningham created first wiki in 1995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Wikipedia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– largest encyclopedi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The read-write matrix of Web 2.0 tools for learn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476440" y="1852560"/>
            <a:ext cx="5524560" cy="414360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4"/>
          <p:cNvSpPr/>
          <p:nvPr/>
        </p:nvSpPr>
        <p:spPr>
          <a:xfrm>
            <a:off x="2133720" y="60958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7b89"/>
                </a:solidFill>
                <a:uFillTx/>
                <a:latin typeface="Times New Roman"/>
                <a:hlinkClick r:id="rId2"/>
              </a:rPr>
              <a:t>http://www.verso.co.nz/mw/index.php?title=The_Read-Write_Matrix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mbedd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ll types of media can be embedded:</a:t>
            </a:r>
            <a:br>
              <a:rPr sz="3200"/>
            </a:b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mag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d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Vide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las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SS feeds: news, blogs, podcasts, etc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edagogical potential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arlick list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eam collaboration,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lassroom reference documents,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llaborative notebooks,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tory starter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professional collaboration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OP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ichardson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nline textbook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nline curriculum (South Africa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andalism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istory of edits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ermissions and security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structor’s role – guide on the sid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ikipedi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s Wikipedia reliable for information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teve Jobs thinks so…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s. Encyclopedia Britannic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15" name="Picture 5" descr="Nohat-logo-nowords-bgwhite-200px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Your mission: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a Wikispaces account:</a:t>
            </a:r>
            <a:br>
              <a:rPr sz="3200"/>
            </a:br>
            <a:r>
              <a:rPr b="0" lang="en-US" sz="2000" spc="-1" strike="noStrike" u="sng">
                <a:solidFill>
                  <a:srgbClr val="377b89"/>
                </a:solidFill>
                <a:uFillTx/>
                <a:latin typeface="Tahoma"/>
                <a:hlinkClick r:id="rId1"/>
              </a:rPr>
              <a:t>http://www.wikispaces.com/site/for/teacher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isit our class wiki and request membershi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dit your page on our class wiki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se the “sandbox” to pla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your own wiki - protecte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isit other’s wikis and request membershi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9-02-09T17:49:55Z</dcterms:modified>
  <cp:revision>104</cp:revision>
  <dc:subject/>
  <dc:title>Wik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